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163-F14C-49BD-88FE-C115C6BCE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A695-07C5-4B99-8060-9DFF31FAA89C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411-DD0E-4DAF-BBA4-CFADD4DD2740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783E-EBE6-4A0E-B0F9-7505515D0A71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F3A-5C83-4A2C-A476-BF62DA64DDB9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44B2-245F-4399-B084-D1D52623E05B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439-A4F3-44D7-BEEE-5EBF2B447090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D644-2579-4219-8BBD-C7D0820AA9E1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48A-A741-4725-AAEC-94E54417D379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8E0-FE2C-4C97-B72B-9960DB84673B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D18-F005-4E26-8F00-4D53B33EE7FD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5F5-D273-4352-B8E5-A673D2890F19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792-AB9A-41E0-9192-732C17BB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260-E486-4AFF-BB17-BDFCE5C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A4BBA-2904-4ACE-9943-F801C303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01FFC-9E81-4FA3-A107-C62A66A7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C7D9D-9341-484B-9871-A04D213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54DED-FF4B-430D-A6D6-4782AD5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2372D-CBA5-4E2A-8306-44361345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FABA-8298-456B-8A58-EE7068C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5465-3824-468E-B4D2-61DAC5DC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1AFEA-3818-489E-8BBC-D4FBC0B1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5E72-42AB-4315-A4F4-9721298E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BDA80-336A-4D45-82DD-DF7DD3C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FD4-D281-4630-ADFA-50AD349F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20BB6-A0F7-4F37-960C-DE36D060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1533-7B87-4908-B427-0EC0688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FD51C-19B5-4FFB-826D-668184C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121EA-23C2-4A4B-A1FF-434D7F85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882C2-3EC9-4263-B726-93339E5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2AED9-33E5-4AAB-BDC0-FB80FBE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145E2-F5D5-4DEE-B0FC-B895F348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9E6BA-3363-455B-BD19-A4E3303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AF181-A240-48A5-9777-8D44F50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393CA-2E4E-4DF6-9283-98A153BE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EA9-5BE4-4E69-99C6-8ABC6889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6F7D8-A279-408E-B201-FA078356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7CBA5-5A2D-4977-952F-79EE3535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41E58-444B-4250-87EB-F152977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A13D0-B273-4692-A04B-F29BC01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815B-CDB3-43F2-86B0-BF903DC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898F8-8387-4F5F-83A0-18C4B09D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BD6F5-D8A0-40C5-A1F4-DC9BDC9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67BBE-9AB3-4DA6-9450-43E6E21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10BD-05C4-40FA-A9E5-D9CB952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F7E2-BCA9-4BD5-9156-26B7B02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746E-5CA4-4524-AC83-E2A05A05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22AA7-49FF-45B2-A676-5C3D5AA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9379D-ADC5-4231-8DA1-10A52BD9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65AB-1E05-408F-80EA-01BBC5A9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76A3-7776-41CA-B512-D7C9991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EFC0F-FA57-4061-9A08-F3C09CE2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A07CD-9FAB-4AE2-A91F-FE47FFB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4F049-187B-4E2F-87F6-6C62391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8EAC9-5EDA-4D2F-A3D9-85C25ED5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346DD-8F47-4054-954A-823B673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1FD14-4E11-4ACB-B3BE-DFCE79F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3A5-E0FF-440E-AA54-CB7F603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E4E93-DF8A-4767-9C2D-29A7201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5024-D13C-40CF-AB83-E99575F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2F093-EFA6-455B-A437-C8C78FD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39A1C-C92E-42D0-BD14-ACA85C13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10265-78E5-4161-91EA-0340128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914-7215-4F36-8910-D1F8F07C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8C3-2F9E-44B5-A5AF-1E93750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DCBA-E6A6-47C5-9BCB-9A7841F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5851-4EC9-4476-99C4-C8F48669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37D-4BA9-4B98-80B4-7AF99B6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9F7-D99D-4FE7-9C66-12707E09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F02-124A-4366-928C-B1335E7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ECBC-7FEF-4F0F-AA20-2DEA2C9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34F-6EDC-4CA4-93AB-A5E1001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AE34-4F06-469E-9B4B-4DD3C76A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E2B5-0176-4C85-8E1F-074B19F6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5269-9F24-4A69-BE9F-E13259AE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4507-3F26-457E-93CB-71B5253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9EE5-DB8B-445D-949A-A3BE994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61D7-EEA7-431A-A5A8-251EA6D5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AF61-B2C5-4EAF-89D8-92E67AC6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535-E5FA-4CC9-A942-F66847A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DC36-3EF6-4525-8C76-D619E8E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27F5-81CE-431C-B408-68859DA8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D3F4-C4AA-41C3-A38D-1706DE1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48BD-4D76-42B7-B0AF-60C88EC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79E6-2D2A-469F-A702-9CAC567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226D-D332-4357-AC4C-67592A0D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2677-6F76-4A8B-8B38-BE89330D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4B18-DD51-491D-B8A7-C6356055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452E-3320-4D59-BA19-7B901580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3CAA-A38A-4942-8909-BF6B501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BB0-6907-42AC-A0D2-F83FB714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2162-FF52-41D4-9615-F2A2EC0B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2A32-BDA9-4830-A31B-45CE808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8F43-B30F-4D52-BABE-33F9B40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CEFB-487C-457A-BFDF-0BD023D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802A-0158-495F-80BB-73FF7F1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16A0-7CAE-4A7D-8939-914A386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1CA6-25C8-4402-8223-533CD53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73B1-B24F-4B9C-8F60-15AA195F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AA247-9DF5-4CEB-8A93-999BDE57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C8E3-1717-4A1F-8948-E2A5B8E9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2BD-1C19-45C1-9E4F-C38B7C28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732B-83CA-44A8-ABD6-53D9C8E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9B3B-58FF-48A9-8386-285F273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A96D-13D0-4D31-96FF-E3E5280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33E4-DAF9-4764-93BD-F48FF5E0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E814-F2EF-451A-AEC3-AFF9483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4054-3763-4ECE-B37E-5119D08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AB27-36CF-4758-A540-75C4113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7F4F-E584-41E1-B38E-6A6D0AC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17CE-650B-4B43-806B-B341C2A1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929A-A367-42CE-94F5-AC1981EC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F76-11D6-4D8A-8A51-7B12E49B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0E18-E3BE-4F31-956A-D12CDC43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13B7-DBAE-408E-BC75-8F947460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5FDC-7B7A-4CF0-A39A-3FEBBC4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7AD1-3E77-4667-A102-BDCA6D4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FAC9-FEF9-4753-9AA3-B6BD4CA1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7956F-A38F-4A34-B28C-799FC17A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7FB9-3911-4B51-94D3-701EE02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4D49-2E75-4718-97BB-57F5D15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CB3C-8ED3-47C4-8B61-2393F35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41E2-41F7-45EB-9EF9-949AF4B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8EC-DD28-48CC-B290-7345E6C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849F-5F70-423D-89FC-64AD01D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AE85-732F-40EC-95F6-5298FB8A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45BC-95DE-4B43-A3E1-BB6C20E2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2E2A-C6A1-400F-95C6-A37802F8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8393-9AF0-4DD6-8BC0-ADA3E31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FCC4-9F60-4D65-BBAB-716A1148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DA6BD-9B51-4048-BFDD-ECB7F00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D490-4BD7-40D5-BD03-F56B277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1230-1201-4847-8354-AF677838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507E-C06C-43AC-906B-D87A637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044-EDC0-4B32-9312-2A35B78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AABC-D716-4BDF-A765-73D66C6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B2C8-407A-4946-B9CD-6866116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F977-3A30-45A0-BE30-1BF5C539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7C1F-F03E-4AA2-A3BE-753F033F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3FA6-AB03-4A7F-BF14-43A6013E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E92DE-7B1F-41CB-B373-624BE577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5F78-D628-46B1-9216-D57B93E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773B6-2654-4646-99C9-47CB1B67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064A-2A90-471D-BFB4-1EEF43CC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2AED9-9341-48E9-89A3-DC0C3E3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E3B-839E-49A6-AD5B-F15AB5B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6A260-94AF-4C05-8DB5-CE615BE8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2301-EBF0-4359-A87C-21274B94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3191-2CCE-4733-B713-37BAD02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1F69-1C9E-49BF-A157-3D34BE9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2F0C-095D-462A-A487-42638C7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70D48-BCB7-4946-B2E4-DC8269DD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3FD0-036C-4ED2-94C8-205C78E2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C42C0-8DF6-48E0-B4A4-AE2F718F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38A1-99A9-47A7-BFE0-D38745FC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05DE5-9313-4132-A869-C490DC0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34EB-79F0-43B4-B5D8-256C843EED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405-0BBA-417F-9A6A-D24143BDF2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7665-0CAC-4430-A841-B97C38A4D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6CF-82E0-49EC-AA60-FC0DCB90121B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90AD-3EF4-4740-8389-1AB552B71D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296-41D5-4142-97DE-2430D52CF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30E-827C-4594-AE1D-1C4E4BE71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3394-963C-4064-8392-0ACBB2738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41B6-38CF-47D1-8398-EB27A0BE50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8AC-0A17-489E-B40B-BAFBD2098C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264-EBE4-4563-98E6-AEC525A51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1E5-D402-43DB-B90A-C09FDAF55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4508640"/>
            <a:ext cx="619272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Маслакова Вера Николаевна,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директор МБОУ «Гимназия № 127»</a:t>
            </a:r>
            <a:r>
              <a:rPr b="1" lang="ru-RU" sz="3200" spc="-1" strike="noStrike">
                <a:solidFill>
                  <a:srgbClr val="08080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80808"/>
                </a:solidFill>
                <a:latin typeface="Georgia"/>
              </a:rPr>
              <a:t>Механизмы введения НСОТ и повышения заработной платы в муниципальном бюджетном общеобразовательном учреждении «Гимназия № 127»</a:t>
            </a:r>
            <a:endParaRPr b="0" lang="en-US" sz="31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47640" y="1341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0808"/>
                </a:solidFill>
                <a:latin typeface="Georgia"/>
              </a:rPr>
              <a:t>Привлечение внебюджетных средств  (тысячи рублей)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643040" y="2276640"/>
          <a:ext cx="7321680" cy="3960720"/>
        </p:xfrm>
        <a:graphic>
          <a:graphicData uri="http://schemas.openxmlformats.org/drawingml/2006/table">
            <a:tbl>
              <a:tblPr/>
              <a:tblGrid>
                <a:gridCol w="1905120"/>
                <a:gridCol w="2077920"/>
                <a:gridCol w="3338640"/>
              </a:tblGrid>
              <a:tr h="11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Расходы на заработную плату и страховые взносы</a:t>
                      </a:r>
                      <a:r>
                        <a:rPr b="1" lang="ru-RU" sz="1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09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923,6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794,7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0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1093,7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669,8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1345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922,5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7a18b"/>
                        </a:gs>
                        <a:gs pos="50000">
                          <a:srgbClr val="dddddd"/>
                        </a:gs>
                        <a:gs pos="100000">
                          <a:srgbClr val="97a18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907640" y="2204640"/>
            <a:ext cx="676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Georgia"/>
              </a:rPr>
              <a:t>Механизмы введения НСОТ и повышения заработной платы в МБОУ «Гимназия № 127»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1547640" y="189000"/>
            <a:ext cx="720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Маслакова Вера Николаевна,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директор МБОУ «Гимназия № 127»</a:t>
            </a:r>
            <a:r>
              <a:rPr b="1" lang="ru-RU" sz="3200" spc="-1" strike="noStrike">
                <a:solidFill>
                  <a:srgbClr val="080808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Фонд оплаты труда гимназии формируют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71400" y="1499760"/>
            <a:ext cx="7391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областная субвенция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ФОТ по нормативу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муниципальный бюджет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дополнительные ставки административного, педагогического, учебно-вспомогательного, обслуживающего персонала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фонд стимулирования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поощрение персонала по результатам деятельности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0808"/>
                </a:solidFill>
                <a:latin typeface="Georgia"/>
              </a:rPr>
              <a:t>внебюджетные средства </a:t>
            </a:r>
            <a:r>
              <a:rPr b="0" lang="ru-RU" sz="2500" spc="-1" strike="noStrike">
                <a:solidFill>
                  <a:srgbClr val="080808"/>
                </a:solidFill>
                <a:latin typeface="Georgia"/>
              </a:rPr>
              <a:t>(платные образовательные  услуги - ставки педагогического, учебно-вспомогательного, обслуживающего персонала)</a:t>
            </a:r>
            <a:endParaRPr b="0" lang="en-US" sz="25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Georgia"/>
              </a:rPr>
              <a:t>Основания разработки, внесения изменений и применения Положения об оплате труда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71400" y="1357200"/>
            <a:ext cx="7391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Трудовой кодекс Российской Федерации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остановления администрации города Снежинска от 01.09.2010 № 1420; от 06.10.2010 № 1576; от 22.10.2010 № 1700; от 21.06.2011 № 750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римерное положение об оплате труда работников образовательного учреждения (приказ Управления образования от 22.10.2010 № 107)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80808"/>
                </a:solidFill>
                <a:latin typeface="Georgia"/>
              </a:rPr>
              <a:t>Приказы Управления образования от 29.03.2011 № 17, от 22.08.2011 № 49 «О внесении изменений в Примерное положение об оплате труда работников»</a:t>
            </a:r>
            <a:endParaRPr b="0" lang="en-US" sz="23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Основные этапы рабо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71400" y="12859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Разработка Положения об оплате труда работников гимназии (приложение к коллективному договору)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Разработка системы критериев распределения фонда стимулирования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Проведение собрания коллектива гимназии по утверждению Коллективного договора, Положения об оплате труда, выборам экспертной комиссии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Подготовка приказов по утверждению принятых документов, прохождение процедуры регистрации Коллективного договора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Georgia"/>
              </a:rPr>
              <a:t>Организация работы экспертной комиссии</a:t>
            </a:r>
            <a:endParaRPr b="0" lang="en-US" sz="2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785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Состав экспертной комиссии – 11 человек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2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учебной работе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воспитательной работе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Заместитель директора по АХР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Диспетчер Учреждения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Учителя от объединений: математика, русский язык и литература, иностранные языки, начальные классы, «естественники», «воспитательная работа»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Georgia"/>
              </a:rPr>
              <a:t>Профсоюз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104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Первые итоги введения НСОТ 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(сентябрь 2010 – январь 2011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835280" y="1916280"/>
          <a:ext cx="6840360" cy="45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16280"/>
                    <a:ext cx="684036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2050920" y="126828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Georgia"/>
              </a:rPr>
              <a:t>Изменение размеров частей ФОТ (тысячи рублей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104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Первые итоги введения НСОТ  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Georgia"/>
              </a:rPr>
              <a:t>(сентябрь 2010 – январь 2011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4" name="Содержимое 4"/>
          <p:cNvGraphicFramePr/>
          <p:nvPr/>
        </p:nvGraphicFramePr>
        <p:xfrm>
          <a:off x="1619280" y="1268280"/>
          <a:ext cx="7391520" cy="51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5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68280"/>
                    <a:ext cx="739152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7" name="Содержимое 6"/>
          <p:cNvGraphicFramePr/>
          <p:nvPr/>
        </p:nvGraphicFramePr>
        <p:xfrm>
          <a:off x="1332000" y="1916280"/>
          <a:ext cx="7812000" cy="46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8" name="Содержимое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916280"/>
                    <a:ext cx="7812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1619280" y="126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Georgia"/>
              </a:rPr>
              <a:t>Увеличение субвенции на обеспечение государственных гарантий прав граждан в сфере образования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280" y="75960"/>
            <a:ext cx="824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Механизмы повышения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Georgia"/>
              </a:rPr>
              <a:t>заработной платы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43040" y="2060640"/>
          <a:ext cx="7286760" cy="41767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Число ставок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Экономия средств </a:t>
                      </a: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(тысячи рублей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% ФО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8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82,2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5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2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5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8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0,1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201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4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33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80808"/>
                          </a:solidFill>
                          <a:latin typeface="Georgia"/>
                        </a:rPr>
                        <a:t>50,3</a:t>
                      </a:r>
                      <a:endParaRPr b="0" lang="en-US" sz="2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7aa4"/>
                        </a:gs>
                        <a:gs pos="50000">
                          <a:srgbClr val="d6cddd"/>
                        </a:gs>
                        <a:gs pos="100000">
                          <a:srgbClr val="917aa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1619280" y="141912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0808"/>
                </a:solidFill>
                <a:latin typeface="Georgia"/>
              </a:rPr>
              <a:t>Оптимизация штатной численности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Вера</dc:creator>
  <dc:description/>
  <dc:language>en-US</dc:language>
  <cp:lastModifiedBy>V.N.Maslakova</cp:lastModifiedBy>
  <dcterms:modified xsi:type="dcterms:W3CDTF">2011-10-17T13:43:40Z</dcterms:modified>
  <cp:revision>1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